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AB71-3597-4B08-8C16-5D57AE5C8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9D24-44E7-48CA-B790-55680CEC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0A21-79D9-444F-AB76-58DDADB8B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3CCA-5DC7-47A9-B805-66D6273AA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E672-4618-4245-8B68-A8FD0038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59AA-5139-457B-AAFE-32B1897D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624E-2C3D-4A09-B41A-2E81FEB4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27D2-F12F-4B28-97F8-0466AF37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2877-D28C-4118-992A-C867D053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B96E-6165-48CE-9375-1FE23093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9F1D-0B22-489F-B196-8619C3C6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9560-8878-4EAB-B052-373291A2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81FE-44E4-4E23-B7F1-64874E313BD1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9480" y="819000"/>
          <a:ext cx="1752840" cy="762120"/>
        </p:xfrm>
        <a:graphic>
          <a:graphicData uri="http://schemas.openxmlformats.org/drawingml/2006/table">
            <a:tbl>
              <a:tblPr/>
              <a:tblGrid>
                <a:gridCol w="1752840"/>
              </a:tblGrid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環保署毒管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消防署應變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609480" y="2857680"/>
          <a:ext cx="1676520" cy="914400"/>
        </p:xfrm>
        <a:graphic>
          <a:graphicData uri="http://schemas.openxmlformats.org/drawingml/2006/table">
            <a:tbl>
              <a:tblPr/>
              <a:tblGrid>
                <a:gridCol w="1676520"/>
              </a:tblGrid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北、中、南區稽查大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593640" y="4991040"/>
          <a:ext cx="1524240" cy="685800"/>
        </p:xfrm>
        <a:graphic>
          <a:graphicData uri="http://schemas.openxmlformats.org/drawingml/2006/table">
            <a:tbl>
              <a:tblPr/>
              <a:tblGrid>
                <a:gridCol w="152424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縣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市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環保局、消防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638680" y="819000"/>
          <a:ext cx="1904760" cy="838080"/>
        </p:xfrm>
        <a:graphic>
          <a:graphicData uri="http://schemas.openxmlformats.org/drawingml/2006/table">
            <a:tbl>
              <a:tblPr/>
              <a:tblGrid>
                <a:gridCol w="1904760"/>
              </a:tblGrid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國防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4483080" y="2349360"/>
          <a:ext cx="3581280" cy="72396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陸軍總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3733920" y="3695760"/>
          <a:ext cx="2438280" cy="685800"/>
        </p:xfrm>
        <a:graphic>
          <a:graphicData uri="http://schemas.openxmlformats.org/drawingml/2006/table">
            <a:tbl>
              <a:tblPr/>
              <a:tblGrid>
                <a:gridCol w="243828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作戰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3733920" y="5981760"/>
          <a:ext cx="2438280" cy="628560"/>
        </p:xfrm>
        <a:graphic>
          <a:graphicData uri="http://schemas.openxmlformats.org/drawingml/2006/table">
            <a:tbl>
              <a:tblPr/>
              <a:tblGrid>
                <a:gridCol w="2438280"/>
              </a:tblGrid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各作戰分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6934320" y="3695760"/>
          <a:ext cx="1752480" cy="79992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快速研判小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819520" y="1143000"/>
            <a:ext cx="28191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361960" y="1143000"/>
            <a:ext cx="29718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1752480"/>
            <a:ext cx="1440" cy="1113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447920" y="1561680"/>
            <a:ext cx="144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4381560"/>
            <a:ext cx="144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447920" y="3772080"/>
            <a:ext cx="144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60720" y="6286680"/>
            <a:ext cx="679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5200560"/>
            <a:ext cx="18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952880" y="4381560"/>
            <a:ext cx="18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24400" y="5413320"/>
            <a:ext cx="2158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59520" y="3076560"/>
            <a:ext cx="1440" cy="596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7002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協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3151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通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62720" y="5373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災情研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46040" y="4457880"/>
            <a:ext cx="4546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通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187680" y="4076640"/>
            <a:ext cx="701640" cy="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51080" y="2946240"/>
            <a:ext cx="729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命令下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1733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通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19320" y="1066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通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820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通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64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毒化災害國軍處理作業流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7467480" y="4495320"/>
            <a:ext cx="0" cy="152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5410080"/>
            <a:ext cx="0" cy="56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58000" y="6019920"/>
          <a:ext cx="1752480" cy="53280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53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偵消小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2133720" y="53341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5334120"/>
            <a:ext cx="0" cy="98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4032360"/>
            <a:ext cx="0" cy="145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4038480"/>
            <a:ext cx="6793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74320" y="4578480"/>
            <a:ext cx="4546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災情通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340320" y="1676160"/>
            <a:ext cx="1800" cy="633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6095880" y="1676160"/>
            <a:ext cx="1800" cy="633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1752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命令下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951440" y="3092400"/>
            <a:ext cx="1440" cy="596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9000" y="3154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命令下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2840" y="5194440"/>
            <a:ext cx="144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722840" y="4374720"/>
            <a:ext cx="144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5920" y="4419720"/>
            <a:ext cx="4546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命令下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171840" y="4229280"/>
            <a:ext cx="7016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4480" y="4191120"/>
            <a:ext cx="729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467480" y="3099960"/>
            <a:ext cx="1800" cy="561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29240" y="31766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命令下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694640" y="3095280"/>
            <a:ext cx="1440" cy="56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88080" y="3213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191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通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8909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協調連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7772400" y="4495320"/>
            <a:ext cx="0" cy="1522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747920" y="4489560"/>
            <a:ext cx="454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協調連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72200" y="6324480"/>
            <a:ext cx="64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5:51:39Z</dcterms:created>
  <dc:creator>戰情官</dc:creator>
  <dc:description/>
  <dc:language>en-US</dc:language>
  <cp:lastModifiedBy>chem3-7</cp:lastModifiedBy>
  <dcterms:modified xsi:type="dcterms:W3CDTF">2001-10-06T07:33:25Z</dcterms:modified>
  <cp:revision>7</cp:revision>
  <dc:subject/>
  <dc:title>PowerPoint 簡報</dc:title>
</cp:coreProperties>
</file>